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0E36-FF27-458E-BF31-C33773953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8586-2058-4C21-A5C7-72037BE2F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25F3-C16A-4E04-AEB1-E7B486F33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889F-241B-438E-9949-F5B2882C4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1BD1-86CA-4C92-A967-B9562FE11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ABDE-9654-4293-9F02-B99ECEE3F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5690-4A35-463A-9244-9E6BDB792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8A7C-B833-443F-929D-82E7EA409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DC88-ED33-4573-BFB0-E6D1098BA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DCCF-FF40-4A33-95C4-5B2F17F62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244B-8C47-489B-8A1A-4A8035609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A96F-84B1-4C9C-874A-4CAF6AB33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B92D-499F-4164-88C6-764F56F96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38BA-4279-4866-8EDF-C6A7901C9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3E73-1C9A-42E4-9CCB-4FC18C8F5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0F4F-174C-4EB0-89ED-9040FDB26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3F0D-9BDD-45A5-B512-2616D138F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3867-C183-4E67-B252-7715548CA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0F01-83EE-409A-84D3-BB0E72E94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DADD-833B-4B8D-A672-580548DF9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D3F2-876B-465A-A743-FB77BB176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5307-0E35-4A40-859C-662A2776F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3EBA-CE78-42DD-9BEE-45F8CF737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07DA-8C0B-46B9-B5B3-FFA421853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C4D6-6669-4B31-A844-8A41F95D9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BD6C-6842-4304-9C90-4C17EE484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898A-DFCA-420F-ACD4-0311F7B9B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20D2-3E27-4AE9-8012-1076AC58C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69D0-8CBA-4E58-8061-A58707914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25D5-259D-4AC9-A21B-D6B0E8A26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6B8D-4D11-407C-8A7F-A6DECE16C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9AA2-D4A0-4BD2-AD39-53CAC2947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1BD3-BC81-4029-AEA2-C13C86C60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7D3A-903B-471C-9F5C-2353F5FFC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4EDB-3E2A-493D-8A34-A99B1C967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A170-A2B5-4D7E-806E-6785307EB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CCA3-2CDE-4A1F-B93C-6F8C9A9A8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FC1F-0345-44F1-8CEF-F56CF7935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15FB-ECC4-4D28-8C7B-288E14E19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6947-0DEC-4CFC-958B-FD158A7A6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5445-D490-4608-AC9A-077B0ED1C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3B76-0EF5-4CC9-B03B-86FAD1D32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5341-7388-48A2-B666-BFBAEB5AE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8120-84F0-4CD5-AB89-EED3CBB9E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8E44-139D-4A37-ABF0-CC002C3CC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B6B2-5039-4D04-B699-2E08FD8C7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9991-21EA-46D9-B58F-35906148B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3FD5-0BBF-4396-9415-9B412B396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CCF6-22AB-4117-A562-BCBD09386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0D4C-DED0-4F84-9118-84EA12C59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3A4E-ED0C-413C-B6E5-E9AF122CE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93F8-38C9-4953-BDFD-AA068A5DD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C396-6AE3-46B2-AAA3-C0D76945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4240-6126-4934-B250-20CEEB67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65A1-5ED8-42DC-8B37-5FD1F6799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61EE-C1C7-4266-8E8D-FE2582A57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039C-0D27-4588-9E49-390BEFD6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4903-4025-45E4-947B-F86AED19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242F-B7D4-494E-8F83-D78C8E54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10E6-97EA-43DD-9631-CDE42AC4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D7F6-FEEE-4F56-916C-6F482BC2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BB8A-4FA5-4BE3-B378-A1C732FC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C9CC-B686-4831-88E6-C1EF4993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D1D5-0383-4D02-84EF-483B0603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C742-D52F-4D01-84A2-B19B556AE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2.xml"/><Relationship Id="rId11" Type="http://schemas.openxmlformats.org/officeDocument/2006/relationships/slide" Target="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6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20.xml"/><Relationship Id="rId18" Type="http://schemas.openxmlformats.org/officeDocument/2006/relationships/slide" Target="slide20.xml"/><Relationship Id="rId19" Type="http://schemas.openxmlformats.org/officeDocument/2006/relationships/slide" Target="slide22.xml"/><Relationship Id="rId20" Type="http://schemas.openxmlformats.org/officeDocument/2006/relationships/slide" Target="slide22.xml"/><Relationship Id="rId21" Type="http://schemas.openxmlformats.org/officeDocument/2006/relationships/slide" Target="slide24.xml"/><Relationship Id="rId22" Type="http://schemas.openxmlformats.org/officeDocument/2006/relationships/slide" Target="slide24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8.xml"/><Relationship Id="rId26" Type="http://schemas.openxmlformats.org/officeDocument/2006/relationships/slide" Target="slide28.xml"/><Relationship Id="rId27" Type="http://schemas.openxmlformats.org/officeDocument/2006/relationships/slide" Target="slide30.xml"/><Relationship Id="rId28" Type="http://schemas.openxmlformats.org/officeDocument/2006/relationships/slide" Target="slide30.xml"/><Relationship Id="rId29" Type="http://schemas.openxmlformats.org/officeDocument/2006/relationships/slide" Target="slide32.xml"/><Relationship Id="rId30" Type="http://schemas.openxmlformats.org/officeDocument/2006/relationships/slide" Target="slide32.xml"/><Relationship Id="rId31" Type="http://schemas.openxmlformats.org/officeDocument/2006/relationships/slide" Target="slide34.xml"/><Relationship Id="rId32" Type="http://schemas.openxmlformats.org/officeDocument/2006/relationships/slide" Target="slide34.xml"/><Relationship Id="rId33" Type="http://schemas.openxmlformats.org/officeDocument/2006/relationships/slide" Target="slide36.xml"/><Relationship Id="rId34" Type="http://schemas.openxmlformats.org/officeDocument/2006/relationships/slide" Target="slide36.xml"/><Relationship Id="rId35" Type="http://schemas.openxmlformats.org/officeDocument/2006/relationships/slide" Target="slide38.xml"/><Relationship Id="rId36" Type="http://schemas.openxmlformats.org/officeDocument/2006/relationships/slide" Target="slide38.xml"/><Relationship Id="rId37" Type="http://schemas.openxmlformats.org/officeDocument/2006/relationships/slide" Target="slide40.xml"/><Relationship Id="rId38" Type="http://schemas.openxmlformats.org/officeDocument/2006/relationships/slide" Target="slide40.xml"/><Relationship Id="rId39" Type="http://schemas.openxmlformats.org/officeDocument/2006/relationships/slide" Target="slide42.xml"/><Relationship Id="rId40" Type="http://schemas.openxmlformats.org/officeDocument/2006/relationships/slide" Target="slide42.xml"/><Relationship Id="rId41" Type="http://schemas.openxmlformats.org/officeDocument/2006/relationships/slide" Target="slide44.xml"/><Relationship Id="rId42" Type="http://schemas.openxmlformats.org/officeDocument/2006/relationships/slide" Target="slide44.xml"/><Relationship Id="rId43" Type="http://schemas.openxmlformats.org/officeDocument/2006/relationships/slide" Target="slide44.xml"/><Relationship Id="rId44" Type="http://schemas.openxmlformats.org/officeDocument/2006/relationships/slide" Target="slide46.xml"/><Relationship Id="rId45" Type="http://schemas.openxmlformats.org/officeDocument/2006/relationships/slide" Target="slide48.xml"/><Relationship Id="rId46" Type="http://schemas.openxmlformats.org/officeDocument/2006/relationships/slide" Target="slide48.xml"/><Relationship Id="rId47" Type="http://schemas.openxmlformats.org/officeDocument/2006/relationships/slide" Target="slide50.xml"/><Relationship Id="rId48" Type="http://schemas.openxmlformats.org/officeDocument/2006/relationships/slide" Target="slide50.xml"/><Relationship Id="rId49" Type="http://schemas.openxmlformats.org/officeDocument/2006/relationships/slideLayout" Target="../slideLayouts/slideLayout1.xml"/><Relationship Id="rId5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12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13">
            <a:hlinkClick r:id="rId33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14">
            <a:hlinkClick r:id="rId35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15">
            <a:hlinkClick r:id="rId37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16">
            <a:hlinkClick r:id="rId39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4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117">
            <a:hlinkClick r:id="rId41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4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18">
            <a:hlinkClick r:id="rId43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4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19">
            <a:hlinkClick r:id="rId45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4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20">
            <a:hlinkClick r:id="rId47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4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Roma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Beginning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ig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f Emp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mpe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Ro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4 seas are located around the bo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1029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riatic, Tyrrhenian, Ionian &amp; Mediterrane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2209320"/>
            <a:ext cx="7238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re did the Romans get their alphabe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ee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90720" y="1980720"/>
            <a:ext cx="7238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early people did the Romans have to compete/deal with that gave them military strateg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rusc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o ruled Rome for 100yrs or until 509 B.C. before it was a Republ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05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arqu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type of government did the Romans u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05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presentative Democra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jor river used by Rom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3300"/>
                </a:solidFill>
                <a:uFillTx/>
                <a:latin typeface="Times New Roman"/>
              </a:rPr>
              <a:t>DAILY DOUB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was considered the best Roman dictator &amp; like Washing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ncinn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ity that attacked Rome from N. Af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th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wo brothers that wanted to give back to po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berius &amp; Gai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long did Pax Romana las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00 yea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ave out food and had entertai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d &amp; Circ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ber ri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ount of good Emperor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 100 points if you can name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mperor of two na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vian &amp; Augus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mperor that Built a w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dr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wo Emperors that used fear and crue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ro and Caligu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moted art &amp; science, aided orph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toninus Pi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oman Republic/Empire started in modern day______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724280" y="2895480"/>
            <a:ext cx="165240" cy="432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001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s killed by his guards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 100 points if you can name the guards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228600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igula (praetorian guard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omans got their architectural style from th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ee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5" descr="Roman_Aqueduct"/>
          <p:cNvPicPr/>
          <p:nvPr/>
        </p:nvPicPr>
        <p:blipFill>
          <a:blip r:embed="rId1"/>
          <a:stretch/>
        </p:blipFill>
        <p:spPr>
          <a:xfrm>
            <a:off x="1905120" y="2514600"/>
            <a:ext cx="5367240" cy="4024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queduc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rich lived in houses called thi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l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mans could do this as long as they didn’t threaten the governme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ig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a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wo Famous Roman Wri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gil &amp; Ho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geographical feature is Ital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307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________ runs from North to South in Ita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ennines Mt. r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jobert</cp:lastModifiedBy>
  <dcterms:modified xsi:type="dcterms:W3CDTF">2014-05-19T15:27:53Z</dcterms:modified>
  <cp:revision>56</cp:revision>
  <dc:subject/>
  <dc:title>No Slide Title</dc:title>
</cp:coreProperties>
</file>